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006-F24D-4440-9487-E5B4D349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D83-0B69-462F-BB61-C56F77BF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AB8-37C7-4979-8B93-BE82C876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412-366F-4933-9A7D-4DB011AF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C16-F5E1-46FF-818F-A1C8B3E8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AF1-9D59-41E3-B6F2-E7FE0EF9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EA7-2A87-421E-96E0-D6E7B4FC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8D7-C70D-4297-8858-0D1E58FE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92A-77BD-43F1-BF7B-774DC582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A57-862E-4C57-92B7-CE57A3E0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54B-4F53-4BBE-9123-AF3EAEE7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4C2-AFBE-4C3D-B3C2-E999B39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8C05-5524-46F9-A647-55FE0C8119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4675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44120" cy="8776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6067440" y="2101680"/>
            <a:ext cx="2451240" cy="7876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627120" y="4017960"/>
            <a:ext cx="34002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03240" y="2725560"/>
            <a:ext cx="5133960" cy="5479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47840" y="1955880"/>
            <a:ext cx="227304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38120" y="3182760"/>
            <a:ext cx="5518080" cy="6940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2881440" y="1951200"/>
            <a:ext cx="3297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2098800" y="2706840"/>
            <a:ext cx="33480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901800" y="1073160"/>
            <a:ext cx="2597040" cy="8589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3165480" y="938160"/>
            <a:ext cx="329256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444600" y="1930320"/>
            <a:ext cx="46749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7:28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